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8.wmf" ContentType="image/x-wmf"/>
  <Override PartName="/ppt/media/image8.png" ContentType="image/png"/>
  <Override PartName="/ppt/media/image13.png" ContentType="image/png"/>
  <Override PartName="/ppt/media/image31.wmf" ContentType="image/x-wmf"/>
  <Override PartName="/ppt/media/image11.png" ContentType="image/png"/>
  <Override PartName="/ppt/media/image32.wmf" ContentType="image/x-wmf"/>
  <Override PartName="/ppt/media/image12.png" ContentType="image/png"/>
  <Override PartName="/ppt/media/image34.wmf" ContentType="image/x-wmf"/>
  <Override PartName="/ppt/media/image14.png" ContentType="image/png"/>
  <Override PartName="/ppt/media/image40.wmf" ContentType="image/x-wmf"/>
  <Override PartName="/ppt/media/image7.png" ContentType="image/png"/>
  <Override PartName="/ppt/media/image35.wmf" ContentType="image/x-wmf"/>
  <Override PartName="/ppt/media/image9.png" ContentType="image/png"/>
  <Override PartName="/ppt/media/image37.wmf" ContentType="image/x-wmf"/>
  <Override PartName="/ppt/media/image39.wmf" ContentType="image/x-wmf"/>
  <Override PartName="/ppt/media/image36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9.wmf" ContentType="image/x-wmf"/>
  <Override PartName="/ppt/media/image1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0912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45FF-EB9E-4C7E-A928-51E610D0A4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F707-3044-45B0-842B-252003E49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094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C1294-08A6-4941-8BCA-5DE9CC08CD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F810F-8866-4894-97B0-4A5996CA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3886C-DC12-4CF4-B366-6FC9459A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77C8A-F9A2-4871-B6A3-F8B6921FCB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2612A-1CC9-4692-8903-97207292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1FC92-6916-4753-8B79-66C952AE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1216D-C0A9-4268-8123-23810B5D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4A847-091B-4FB5-A544-7113E7BE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8D195-0754-44C1-9425-1CFE9038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080FA-C4C4-4032-A0F3-DF5E942D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45936-4191-4872-AD4A-3BDB5B04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37A85-A619-491F-B6CC-3496F189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915AC-7A22-44CA-A241-EE498C8D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12DCB-380B-4291-9308-7488D663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396D5-A479-46D0-BE50-9CCFBD5E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95941-5468-4F0E-A114-A2F91853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57FAE-6151-45A2-A212-2D17DE5E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D1E8E-2B91-4E5F-B544-639ECA2B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EDC08-CFE5-417E-9041-73E74C17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7A4347-9969-4F89-93BE-2911E005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DA567-9F70-4925-AE15-62B330D1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7C782-EF6B-45FA-934E-5C062B93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E34C4-2481-4035-B1CF-591FE621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79DB2-53C4-41F7-95EE-CD22EF70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578563-E03A-4DE2-8534-C9FE9EC6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40039-0E1E-4796-BEE6-438AD888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9DDAF-56EF-4A77-B932-5BFC1C34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5840F-F2EB-45B9-9889-075CE988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E761F4-4115-4721-A4F4-86334B72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04D40A-5401-4ABE-B111-EC1E0585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8E6BD6-43D7-419E-B891-2EE15245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C2A731-B480-4B4F-B6A9-B9821A56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AB0419-1450-480E-BB07-D0182E1C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2E760-9E83-4EB0-8EAF-6099AE5C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43F5F9-8188-48C7-83AC-D9A0DB74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3A44B0-1408-48BC-9E48-8CB31DE6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652E9F-7FE7-4C1C-A99B-F630C18B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23F3B8-53D4-486D-939D-AFCA4418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67449D-261A-4FB8-8557-3D7CA24B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FCAA63-1064-4E4D-9655-FF700FE2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B6AB49-F864-487C-B959-4197E310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3C41D8-021F-4608-8744-47B006A0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3814A4-598A-4C91-8848-33EA440D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254855-0132-45D8-A1EE-4EC371E9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A2AD3-0DC5-4608-BB89-2A70C4DC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BDE7A4-2327-417C-AE23-FABE1933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51FBA-DE3D-4634-BE97-C7A386E5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095D12-0299-4C57-92A1-63A78781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D10FB0-C78C-4880-BC83-53BF3A7F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F4862-36F2-4B66-8E4D-2B7A8A78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AE2D71-A01B-4BA1-B30F-98F0225F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75BD41-E544-4C98-A8A3-3BE76A12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7A3731-D943-4FDD-9F23-E477F391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993D58-6D8F-402F-8EB8-F649AFE8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9C50BF-B0E6-406E-B514-06E0BAC9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18675-A008-49D9-819E-31A76A45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800D67-40AF-4220-875E-7F853927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658C20-D075-4756-BAB5-E676A494BD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86FFB4-0CC0-4002-8BAD-EB792AF3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E037DC-095D-4B30-A79E-AC08B338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99A3D6-28D8-4860-857F-EDCE8AE3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E67CDF-3216-4621-B854-467BAE90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F3DE68-1F05-48B5-892C-226A6C43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5A9703-ACC6-4545-B23C-E29B65C3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206663-70FC-4D7C-96ED-C82A5F07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30F254-7F92-416B-B235-B79C1E7C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36FAC-040F-4AD2-AD9A-CADC44B9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7A4B6D-8985-48AD-A144-A9B9325C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54F615-2695-4D12-BBF0-BA73C4EA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5E6255-FA41-4099-8CBA-7F94267683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124C8-C2D8-479D-9636-EE0EA5B2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5E7F8-4AF7-4AF6-8CDF-2975FAE7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spin-b"/>
          <p:cNvPicPr/>
          <p:nvPr/>
        </p:nvPicPr>
        <p:blipFill>
          <a:blip r:embed="rId2"/>
          <a:stretch/>
        </p:blipFill>
        <p:spPr>
          <a:xfrm>
            <a:off x="380880" y="380880"/>
            <a:ext cx="8153640" cy="64771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9714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42FB-2ADF-44E8-B0A6-D7A4E73B5AA3}" type="datetime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800064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6608-6725-4354-87B2-B7742A4DB548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27" descr="logo.gif"/>
          <p:cNvPicPr/>
          <p:nvPr/>
        </p:nvPicPr>
        <p:blipFill>
          <a:blip r:embed="rId3"/>
          <a:stretch/>
        </p:blipFill>
        <p:spPr>
          <a:xfrm>
            <a:off x="0" y="6086520"/>
            <a:ext cx="1152360" cy="77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19" descr="spin-b"/>
          <p:cNvPicPr/>
          <p:nvPr/>
        </p:nvPicPr>
        <p:blipFill>
          <a:blip r:embed="rId2"/>
          <a:stretch/>
        </p:blipFill>
        <p:spPr>
          <a:xfrm>
            <a:off x="380880" y="380880"/>
            <a:ext cx="8153640" cy="6477120"/>
          </a:xfrm>
          <a:prstGeom prst="rect">
            <a:avLst/>
          </a:prstGeom>
          <a:ln w="0">
            <a:noFill/>
          </a:ln>
        </p:spPr>
      </p:pic>
      <p:grpSp>
        <p:nvGrpSpPr>
          <p:cNvPr id="42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2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3" name="Picture 27" descr="logo.gif"/>
          <p:cNvPicPr/>
          <p:nvPr/>
        </p:nvPicPr>
        <p:blipFill>
          <a:blip r:embed="rId3"/>
          <a:stretch/>
        </p:blipFill>
        <p:spPr>
          <a:xfrm>
            <a:off x="0" y="6086520"/>
            <a:ext cx="1152360" cy="77148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9" descr="spin-b"/>
          <p:cNvPicPr/>
          <p:nvPr/>
        </p:nvPicPr>
        <p:blipFill>
          <a:blip r:embed="rId2"/>
          <a:stretch/>
        </p:blipFill>
        <p:spPr>
          <a:xfrm>
            <a:off x="380880" y="380880"/>
            <a:ext cx="8153640" cy="6477120"/>
          </a:xfrm>
          <a:prstGeom prst="rect">
            <a:avLst/>
          </a:prstGeom>
          <a:ln w="0">
            <a:noFill/>
          </a:ln>
        </p:spPr>
      </p:pic>
      <p:grpSp>
        <p:nvGrpSpPr>
          <p:cNvPr id="47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7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3" name="Picture 27" descr="logo.gif"/>
          <p:cNvPicPr/>
          <p:nvPr/>
        </p:nvPicPr>
        <p:blipFill>
          <a:blip r:embed="rId3"/>
          <a:stretch/>
        </p:blipFill>
        <p:spPr>
          <a:xfrm>
            <a:off x="0" y="6086520"/>
            <a:ext cx="1152360" cy="77148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19" descr="spin-b"/>
          <p:cNvPicPr/>
          <p:nvPr/>
        </p:nvPicPr>
        <p:blipFill>
          <a:blip r:embed="rId2"/>
          <a:stretch/>
        </p:blipFill>
        <p:spPr>
          <a:xfrm>
            <a:off x="380880" y="380880"/>
            <a:ext cx="8153640" cy="6477120"/>
          </a:xfrm>
          <a:prstGeom prst="rect">
            <a:avLst/>
          </a:prstGeom>
          <a:ln w="0">
            <a:noFill/>
          </a:ln>
        </p:spPr>
      </p:pic>
      <p:grpSp>
        <p:nvGrpSpPr>
          <p:cNvPr id="52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3" name="Picture 27" descr="logo.gif"/>
          <p:cNvPicPr/>
          <p:nvPr/>
        </p:nvPicPr>
        <p:blipFill>
          <a:blip r:embed="rId3"/>
          <a:stretch/>
        </p:blipFill>
        <p:spPr>
          <a:xfrm>
            <a:off x="0" y="6086520"/>
            <a:ext cx="1152360" cy="77148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19" descr="spin-b"/>
          <p:cNvPicPr/>
          <p:nvPr/>
        </p:nvPicPr>
        <p:blipFill>
          <a:blip r:embed="rId2"/>
          <a:stretch/>
        </p:blipFill>
        <p:spPr>
          <a:xfrm>
            <a:off x="380880" y="380880"/>
            <a:ext cx="8153640" cy="6477120"/>
          </a:xfrm>
          <a:prstGeom prst="rect">
            <a:avLst/>
          </a:prstGeom>
          <a:ln w="0">
            <a:noFill/>
          </a:ln>
        </p:spPr>
      </p:pic>
      <p:grpSp>
        <p:nvGrpSpPr>
          <p:cNvPr id="57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3" name="Picture 27" descr="logo.gif"/>
          <p:cNvPicPr/>
          <p:nvPr/>
        </p:nvPicPr>
        <p:blipFill>
          <a:blip r:embed="rId3"/>
          <a:stretch/>
        </p:blipFill>
        <p:spPr>
          <a:xfrm>
            <a:off x="0" y="6086520"/>
            <a:ext cx="1152360" cy="7714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19" descr="spin-b"/>
          <p:cNvPicPr/>
          <p:nvPr/>
        </p:nvPicPr>
        <p:blipFill>
          <a:blip r:embed="rId2"/>
          <a:stretch/>
        </p:blipFill>
        <p:spPr>
          <a:xfrm>
            <a:off x="380880" y="380880"/>
            <a:ext cx="8153640" cy="647712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Picture 27" descr="logo.gif"/>
          <p:cNvPicPr/>
          <p:nvPr/>
        </p:nvPicPr>
        <p:blipFill>
          <a:blip r:embed="rId3"/>
          <a:stretch/>
        </p:blipFill>
        <p:spPr>
          <a:xfrm>
            <a:off x="0" y="6086520"/>
            <a:ext cx="1152360" cy="77148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19" descr="spin-b"/>
          <p:cNvPicPr/>
          <p:nvPr/>
        </p:nvPicPr>
        <p:blipFill>
          <a:blip r:embed="rId2"/>
          <a:stretch/>
        </p:blipFill>
        <p:spPr>
          <a:xfrm>
            <a:off x="380880" y="380880"/>
            <a:ext cx="8153640" cy="6477120"/>
          </a:xfrm>
          <a:prstGeom prst="rect">
            <a:avLst/>
          </a:prstGeom>
          <a:ln w="0">
            <a:noFill/>
          </a:ln>
        </p:spPr>
      </p:pic>
      <p:grpSp>
        <p:nvGrpSpPr>
          <p:cNvPr id="67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3" name="Picture 27" descr="logo.gif"/>
          <p:cNvPicPr/>
          <p:nvPr/>
        </p:nvPicPr>
        <p:blipFill>
          <a:blip r:embed="rId3"/>
          <a:stretch/>
        </p:blipFill>
        <p:spPr>
          <a:xfrm>
            <a:off x="0" y="6086520"/>
            <a:ext cx="1152360" cy="77148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76DB-9BAE-4F19-AF75-785C2966A818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5E9D-CAD5-4744-9E29-815BF190D1B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2761-B2AC-4E1A-853F-855E886BF3E3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C506-E8D2-4110-BAEF-0ABAD373098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90D4-319D-4FE0-933C-DE88609E9F1C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6EC6-A49A-49A3-8109-06F800E1EE6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2605-43C2-4C7C-91D4-5FA946C22E43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7246-3BE4-435E-8276-8D1D1A12D7B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3" descr="spin-b"/>
          <p:cNvPicPr/>
          <p:nvPr/>
        </p:nvPicPr>
        <p:blipFill>
          <a:blip r:embed="rId2"/>
          <a:stretch/>
        </p:blipFill>
        <p:spPr>
          <a:xfrm>
            <a:off x="380880" y="0"/>
            <a:ext cx="8153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8" name="Rectangle 4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5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6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1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31" name="Picture 40" descr="logo.gif"/>
          <p:cNvPicPr/>
          <p:nvPr/>
        </p:nvPicPr>
        <p:blipFill>
          <a:blip r:embed="rId3"/>
          <a:stretch/>
        </p:blipFill>
        <p:spPr>
          <a:xfrm>
            <a:off x="0" y="6086520"/>
            <a:ext cx="1152360" cy="7714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5"/>
          </p:nvPr>
        </p:nvSpPr>
        <p:spPr>
          <a:xfrm>
            <a:off x="29714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6AAC-FD60-4944-B347-E6CBACCE0248}" type="datetime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6"/>
          </p:nvPr>
        </p:nvSpPr>
        <p:spPr>
          <a:xfrm>
            <a:off x="800064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7FED-552A-4AD4-9EEF-46FA62CE068A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9" descr="spin-b"/>
          <p:cNvPicPr/>
          <p:nvPr/>
        </p:nvPicPr>
        <p:blipFill>
          <a:blip r:embed="rId2"/>
          <a:stretch/>
        </p:blipFill>
        <p:spPr>
          <a:xfrm>
            <a:off x="380880" y="380880"/>
            <a:ext cx="8153640" cy="647712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Picture 27" descr="logo.gif"/>
          <p:cNvPicPr/>
          <p:nvPr/>
        </p:nvPicPr>
        <p:blipFill>
          <a:blip r:embed="rId3"/>
          <a:stretch/>
        </p:blipFill>
        <p:spPr>
          <a:xfrm>
            <a:off x="0" y="6086520"/>
            <a:ext cx="1152360" cy="7714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9" descr="spin-b"/>
          <p:cNvPicPr/>
          <p:nvPr/>
        </p:nvPicPr>
        <p:blipFill>
          <a:blip r:embed="rId2"/>
          <a:stretch/>
        </p:blipFill>
        <p:spPr>
          <a:xfrm>
            <a:off x="380880" y="380880"/>
            <a:ext cx="8153640" cy="647712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2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Picture 27" descr="logo.gif"/>
          <p:cNvPicPr/>
          <p:nvPr/>
        </p:nvPicPr>
        <p:blipFill>
          <a:blip r:embed="rId3"/>
          <a:stretch/>
        </p:blipFill>
        <p:spPr>
          <a:xfrm>
            <a:off x="0" y="6086520"/>
            <a:ext cx="1152360" cy="7714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9" descr="spin-b"/>
          <p:cNvPicPr/>
          <p:nvPr/>
        </p:nvPicPr>
        <p:blipFill>
          <a:blip r:embed="rId2"/>
          <a:stretch/>
        </p:blipFill>
        <p:spPr>
          <a:xfrm>
            <a:off x="380880" y="380880"/>
            <a:ext cx="8153640" cy="6477120"/>
          </a:xfrm>
          <a:prstGeom prst="rect">
            <a:avLst/>
          </a:prstGeom>
          <a:ln w="0">
            <a:noFill/>
          </a:ln>
        </p:spPr>
      </p:pic>
      <p:grpSp>
        <p:nvGrpSpPr>
          <p:cNvPr id="37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7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3" name="Picture 27" descr="logo.gif"/>
          <p:cNvPicPr/>
          <p:nvPr/>
        </p:nvPicPr>
        <p:blipFill>
          <a:blip r:embed="rId3"/>
          <a:stretch/>
        </p:blipFill>
        <p:spPr>
          <a:xfrm>
            <a:off x="0" y="6086520"/>
            <a:ext cx="1152360" cy="77148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17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A2CA-5746-4816-8068-6970326AF39E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9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0B2C-C4A4-4539-972D-4B2FDACF88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udakov Double Logs in small-x formal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1523880" y="4419360"/>
            <a:ext cx="739152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ng Yu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rence Berkeley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s: Mueller, Xiao, Yuan, PRL110, 082301 (2013); to be submitte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QCD dynamics in cold nucl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5410080" y="1980720"/>
            <a:ext cx="3276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nclusive observ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IS structure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+A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h+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Gluon density in integral form or limited access to the kt-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Full exploration of the dynamics needs kt-dependence in hard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F6AF-BC63-4D5C-8AAB-056541320902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3771-6A0F-4D01-A120-2666D0D4FCF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5" descr="Screen shot 2012-08-15 at 10.16.17 AM.png"/>
          <p:cNvPicPr/>
          <p:nvPr/>
        </p:nvPicPr>
        <p:blipFill>
          <a:blip r:embed="rId1"/>
          <a:stretch/>
        </p:blipFill>
        <p:spPr>
          <a:xfrm>
            <a:off x="609480" y="1676520"/>
            <a:ext cx="4834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Kt-dependent observ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5333760" y="3733920"/>
            <a:ext cx="33526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Hard processes probe the kt-dependent gluon distributions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aturation phenomena manifest in the observ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AC1E-AFF9-4D4F-8791-CAF7D9956BDE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0B9D-A411-4546-A157-B69C63B11C7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5" descr="Screen shot 2012-08-15 at 10.16.17 AM.png"/>
          <p:cNvPicPr/>
          <p:nvPr/>
        </p:nvPicPr>
        <p:blipFill>
          <a:blip r:embed="rId1"/>
          <a:stretch/>
        </p:blipFill>
        <p:spPr>
          <a:xfrm>
            <a:off x="380880" y="1676520"/>
            <a:ext cx="4834080" cy="4419360"/>
          </a:xfrm>
          <a:prstGeom prst="rect">
            <a:avLst/>
          </a:prstGeom>
          <a:ln w="0">
            <a:noFill/>
          </a:ln>
        </p:spPr>
      </p:pic>
      <p:sp>
        <p:nvSpPr>
          <p:cNvPr id="792" name="TextBox 6"/>
          <p:cNvSpPr/>
          <p:nvPr/>
        </p:nvSpPr>
        <p:spPr>
          <a:xfrm>
            <a:off x="2674440" y="4876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18ff"/>
                </a:solidFill>
                <a:latin typeface="Arial"/>
              </a:rPr>
              <a:t>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7" descr="Screen shot 2012-08-15 at 11.36.49 AM.png"/>
          <p:cNvPicPr/>
          <p:nvPr/>
        </p:nvPicPr>
        <p:blipFill>
          <a:blip r:embed="rId2"/>
          <a:stretch/>
        </p:blipFill>
        <p:spPr>
          <a:xfrm>
            <a:off x="5715000" y="1676520"/>
            <a:ext cx="2417760" cy="1753920"/>
          </a:xfrm>
          <a:prstGeom prst="rect">
            <a:avLst/>
          </a:prstGeom>
          <a:ln w="0">
            <a:noFill/>
          </a:ln>
        </p:spPr>
      </p:pic>
      <p:sp>
        <p:nvSpPr>
          <p:cNvPr id="794" name="Block Arc 10"/>
          <p:cNvSpPr/>
          <p:nvPr/>
        </p:nvSpPr>
        <p:spPr>
          <a:xfrm rot="5079000">
            <a:off x="7448040" y="2284200"/>
            <a:ext cx="696960" cy="271440"/>
          </a:xfrm>
          <a:custGeom>
            <a:avLst/>
            <a:gdLst/>
            <a:ahLst/>
            <a:rect l="l" t="t" r="r" b="b"/>
            <a:pathLst>
              <a:path w="696912" h="271463">
                <a:moveTo>
                  <a:pt x="0" y="135732"/>
                </a:moveTo>
                <a:cubicBezTo>
                  <a:pt x="0" y="60769"/>
                  <a:pt x="156009" y="0"/>
                  <a:pt x="348456" y="0"/>
                </a:cubicBezTo>
                <a:cubicBezTo>
                  <a:pt x="540903" y="0"/>
                  <a:pt x="696912" y="60769"/>
                  <a:pt x="696912" y="135732"/>
                </a:cubicBezTo>
                <a:lnTo>
                  <a:pt x="629046" y="135732"/>
                </a:lnTo>
                <a:cubicBezTo>
                  <a:pt x="629046" y="98251"/>
                  <a:pt x="503422" y="67866"/>
                  <a:pt x="348456" y="67866"/>
                </a:cubicBezTo>
                <a:cubicBezTo>
                  <a:pt x="193490" y="67866"/>
                  <a:pt x="67866" y="98251"/>
                  <a:pt x="67866" y="135732"/>
                </a:cubicBezTo>
                <a:lnTo>
                  <a:pt x="0" y="135732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1"/>
          <p:cNvSpPr/>
          <p:nvPr/>
        </p:nvSpPr>
        <p:spPr>
          <a:xfrm>
            <a:off x="8015400" y="2209680"/>
            <a:ext cx="90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2"/>
          <p:cNvSpPr/>
          <p:nvPr/>
        </p:nvSpPr>
        <p:spPr>
          <a:xfrm>
            <a:off x="7171200" y="281952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Sudakov resummation at small-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ake massive scalar particle production p+A-&gt;H+X as an example to demonstrate the double logarithms, and resu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ED5A-0247-457F-B5D3-46C5D413D784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CB4A-5FE0-4B55-AFC5-6E88892C6B9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5" descr="Screen shot 2012-08-15 at 1.40.58 PM.png"/>
          <p:cNvPicPr/>
          <p:nvPr/>
        </p:nvPicPr>
        <p:blipFill>
          <a:blip r:embed="rId1"/>
          <a:stretch/>
        </p:blipFill>
        <p:spPr>
          <a:xfrm>
            <a:off x="1295280" y="4876920"/>
            <a:ext cx="6413760" cy="82548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6" descr="Screen shot 2012-08-15 at 1.41.06 PM.png"/>
          <p:cNvPicPr/>
          <p:nvPr/>
        </p:nvPicPr>
        <p:blipFill>
          <a:blip r:embed="rId2"/>
          <a:stretch/>
        </p:blipFill>
        <p:spPr>
          <a:xfrm>
            <a:off x="1676520" y="5867280"/>
            <a:ext cx="6019560" cy="60804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7" descr="Screen shot 2012-08-15 at 1.43.01 PM.png"/>
          <p:cNvPicPr/>
          <p:nvPr/>
        </p:nvPicPr>
        <p:blipFill>
          <a:blip r:embed="rId3"/>
          <a:stretch/>
        </p:blipFill>
        <p:spPr>
          <a:xfrm>
            <a:off x="3124080" y="3048120"/>
            <a:ext cx="2667240" cy="1616040"/>
          </a:xfrm>
          <a:prstGeom prst="rect">
            <a:avLst/>
          </a:prstGeom>
          <a:ln w="0">
            <a:noFill/>
          </a:ln>
        </p:spPr>
      </p:pic>
      <p:sp>
        <p:nvSpPr>
          <p:cNvPr id="804" name="Oval 8"/>
          <p:cNvSpPr/>
          <p:nvPr/>
        </p:nvSpPr>
        <p:spPr>
          <a:xfrm>
            <a:off x="3200400" y="3276720"/>
            <a:ext cx="1522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5" name="Straight Arrow Connector 10"/>
          <p:cNvCxnSpPr/>
          <p:nvPr/>
        </p:nvCxnSpPr>
        <p:spPr>
          <a:xfrm>
            <a:off x="2743200" y="3428640"/>
            <a:ext cx="534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6" name="Straight Connector 13"/>
          <p:cNvSpPr/>
          <p:nvPr/>
        </p:nvSpPr>
        <p:spPr>
          <a:xfrm flipV="1">
            <a:off x="32767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traight Connector 16"/>
          <p:cNvSpPr/>
          <p:nvPr/>
        </p:nvSpPr>
        <p:spPr>
          <a:xfrm flipV="1">
            <a:off x="3352680" y="320004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aight Connector 17"/>
          <p:cNvSpPr/>
          <p:nvPr/>
        </p:nvSpPr>
        <p:spPr>
          <a:xfrm flipV="1">
            <a:off x="3330720" y="3124080"/>
            <a:ext cx="40320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19"/>
          <p:cNvSpPr/>
          <p:nvPr/>
        </p:nvSpPr>
        <p:spPr>
          <a:xfrm>
            <a:off x="2298240" y="297180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20"/>
          <p:cNvSpPr/>
          <p:nvPr/>
        </p:nvSpPr>
        <p:spPr>
          <a:xfrm>
            <a:off x="5432760" y="3124080"/>
            <a:ext cx="69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1" name="Straight Arrow Connector 22"/>
          <p:cNvCxnSpPr/>
          <p:nvPr/>
        </p:nvCxnSpPr>
        <p:spPr>
          <a:xfrm>
            <a:off x="4723920" y="41907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2" name="TextBox 23"/>
          <p:cNvSpPr/>
          <p:nvPr/>
        </p:nvSpPr>
        <p:spPr>
          <a:xfrm>
            <a:off x="5531400" y="403848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-gluon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Curved Left Arrow 24"/>
          <p:cNvSpPr/>
          <p:nvPr/>
        </p:nvSpPr>
        <p:spPr>
          <a:xfrm>
            <a:off x="8001000" y="4343400"/>
            <a:ext cx="304920" cy="1066680"/>
          </a:xfrm>
          <a:custGeom>
            <a:avLst/>
            <a:gdLst>
              <a:gd name="textAreaLeft" fmla="*/ 40680 w 304920"/>
              <a:gd name="textAreaRight" fmla="*/ 264240 w 304920"/>
              <a:gd name="textAreaTop" fmla="*/ 237960 h 1066680"/>
              <a:gd name="textAreaBottom" fmla="*/ 790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43" stAng="-5400000" swAng="5400000"/>
                <a:lnTo>
                  <a:pt x="21600" y="11185"/>
                </a:lnTo>
                <a:arcTo wR="21600" hR="9643" stAng="0" swAng="3597406"/>
                <a:lnTo>
                  <a:pt x="5400" y="21294"/>
                </a:lnTo>
                <a:lnTo>
                  <a:pt x="0" y="20057"/>
                </a:lnTo>
                <a:lnTo>
                  <a:pt x="5400" y="18208"/>
                </a:lnTo>
                <a:lnTo>
                  <a:pt x="5400" y="18980"/>
                </a:lnTo>
                <a:arcTo wR="21600" hR="9643" stAng="3597406" swAng="-3474356"/>
                <a:lnTo>
                  <a:pt x="21531" y="10414"/>
                </a:lnTo>
                <a:arcTo wR="21600" hR="9643" stAng="-123050" swAng="-5276950"/>
                <a:close/>
              </a:path>
              <a:path fill="darkenLess" w="21600" h="21600">
                <a:moveTo>
                  <a:pt x="0" y="0"/>
                </a:moveTo>
                <a:arcTo wR="21600" hR="9643" stAng="-5400000" swAng="5400000"/>
                <a:lnTo>
                  <a:pt x="21600" y="11185"/>
                </a:lnTo>
                <a:arcTo wR="21600" hR="9643" stAng="0" swAng="-123050"/>
                <a:lnTo>
                  <a:pt x="21531" y="10414"/>
                </a:lnTo>
                <a:arcTo wR="21600" hR="9643" stAng="-123050" swAng="-5276950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25"/>
          <p:cNvSpPr/>
          <p:nvPr/>
        </p:nvSpPr>
        <p:spPr>
          <a:xfrm>
            <a:off x="4038480" y="4419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19"/>
          <p:cNvSpPr/>
          <p:nvPr/>
        </p:nvSpPr>
        <p:spPr>
          <a:xfrm>
            <a:off x="3593520" y="426708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Explicit one-loop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02F3-8598-4457-BF09-30CC187C39C9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AA55-EE2D-441D-BE7E-64021BB46A0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6" descr="Screen shot 2012-08-15 at 1.50.27 PM.png"/>
          <p:cNvPicPr/>
          <p:nvPr/>
        </p:nvPicPr>
        <p:blipFill>
          <a:blip r:embed="rId1"/>
          <a:stretch/>
        </p:blipFill>
        <p:spPr>
          <a:xfrm>
            <a:off x="457200" y="1828800"/>
            <a:ext cx="4343400" cy="2297160"/>
          </a:xfrm>
          <a:prstGeom prst="rect">
            <a:avLst/>
          </a:prstGeom>
          <a:ln w="0">
            <a:noFill/>
          </a:ln>
        </p:spPr>
      </p:pic>
      <p:sp>
        <p:nvSpPr>
          <p:cNvPr id="820" name="Plus 9"/>
          <p:cNvSpPr/>
          <p:nvPr/>
        </p:nvSpPr>
        <p:spPr>
          <a:xfrm>
            <a:off x="4952880" y="2743200"/>
            <a:ext cx="533520" cy="457200"/>
          </a:xfrm>
          <a:custGeom>
            <a:avLst/>
            <a:gdLst/>
            <a:ahLst/>
            <a:rect l="l" t="t" r="r" b="b"/>
            <a:pathLst>
              <a:path w="533400" h="457200">
                <a:moveTo>
                  <a:pt x="70702" y="174833"/>
                </a:moveTo>
                <a:lnTo>
                  <a:pt x="212933" y="174833"/>
                </a:lnTo>
                <a:lnTo>
                  <a:pt x="212933" y="60602"/>
                </a:lnTo>
                <a:lnTo>
                  <a:pt x="320467" y="60602"/>
                </a:lnTo>
                <a:lnTo>
                  <a:pt x="320467" y="174833"/>
                </a:lnTo>
                <a:lnTo>
                  <a:pt x="462698" y="174833"/>
                </a:lnTo>
                <a:lnTo>
                  <a:pt x="462698" y="282367"/>
                </a:lnTo>
                <a:lnTo>
                  <a:pt x="320467" y="282367"/>
                </a:lnTo>
                <a:lnTo>
                  <a:pt x="320467" y="396598"/>
                </a:lnTo>
                <a:lnTo>
                  <a:pt x="212933" y="396598"/>
                </a:lnTo>
                <a:lnTo>
                  <a:pt x="212933" y="282367"/>
                </a:lnTo>
                <a:lnTo>
                  <a:pt x="70702" y="282367"/>
                </a:lnTo>
                <a:lnTo>
                  <a:pt x="70702" y="174833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457200" y="4952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llinear divergenc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DGLAP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mall-x divergenc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BK-type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ominguiz-Mueller-Munier-Xiao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11" descr="Screen shot 2012-08-15 at 1.50.43 PM.png"/>
          <p:cNvPicPr/>
          <p:nvPr/>
        </p:nvPicPr>
        <p:blipFill>
          <a:blip r:embed="rId2"/>
          <a:stretch/>
        </p:blipFill>
        <p:spPr>
          <a:xfrm>
            <a:off x="5688000" y="2362320"/>
            <a:ext cx="3456000" cy="11430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1" descr="Screen shot 2012-08-16 at 9.10.05 AM.png"/>
          <p:cNvPicPr/>
          <p:nvPr/>
        </p:nvPicPr>
        <p:blipFill>
          <a:blip r:embed="rId3"/>
          <a:stretch/>
        </p:blipFill>
        <p:spPr>
          <a:xfrm>
            <a:off x="457200" y="4191120"/>
            <a:ext cx="837900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oft vs Collinear glu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Radiated gluon momen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oft gluon, 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α~β&lt;&lt;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llinear gluon, 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α~1, β&lt;&lt;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mall-x collinear gluon, 1-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β&lt;&lt;1, α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Rapidity di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A51B-FC98-4865-88A6-F951C4E7DF99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663D-69C4-4129-A652-63221D48863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Picture 5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44258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xamp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457200" y="3733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near gluon from the pro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near gluon from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 gluon to Sudakov double l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C99F-47C1-4D76-A831-FA178C3571B1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C72E-A409-4CD6-BB57-57FB6A4A4A8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9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0388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457200" y="41148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contributes to small-x collinear glu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A109-9A17-44CD-B15F-4B2050DEF0D9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D2F6-487B-41C8-9459-3ABC0815468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5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59673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Final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ouble logs at one-loop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llins-Soper-Sterman resu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A4D8-61C0-4E0C-9ECD-6CB4AE736B88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C39A-C448-489F-9B5B-F3FC5EDAD35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Picture 5" descr="Screen shot 2012-08-15 at 1.54.36 PM.png"/>
          <p:cNvPicPr/>
          <p:nvPr/>
        </p:nvPicPr>
        <p:blipFill>
          <a:blip r:embed="rId1"/>
          <a:stretch/>
        </p:blipFill>
        <p:spPr>
          <a:xfrm>
            <a:off x="1219320" y="2362320"/>
            <a:ext cx="7200720" cy="141768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6" descr="Screen shot 2012-08-15 at 1.54.47 PM.png"/>
          <p:cNvPicPr/>
          <p:nvPr/>
        </p:nvPicPr>
        <p:blipFill>
          <a:blip r:embed="rId2"/>
          <a:stretch/>
        </p:blipFill>
        <p:spPr>
          <a:xfrm>
            <a:off x="914400" y="4648320"/>
            <a:ext cx="80136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Slide Number Placeholder 4"/>
          <p:cNvSpPr/>
          <p:nvPr/>
        </p:nvSpPr>
        <p:spPr>
          <a:xfrm>
            <a:off x="4648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43FE-60D9-4999-B391-7DF194606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Collins-Soper-Sterman Resum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arge Logs are re-summed by solving the energy evolution equation of the TM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K and G obey the renormalization group e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e large logs will be resummed into the exponential form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,B,C functions are perturbative calcu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5" descr="txp_fig"/>
          <p:cNvPicPr/>
          <p:nvPr/>
        </p:nvPicPr>
        <p:blipFill>
          <a:blip r:embed="rId1"/>
          <a:stretch/>
        </p:blipFill>
        <p:spPr>
          <a:xfrm>
            <a:off x="1143000" y="2286000"/>
            <a:ext cx="6705720" cy="68112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4" descr="txp_fig"/>
          <p:cNvPicPr/>
          <p:nvPr/>
        </p:nvPicPr>
        <p:blipFill>
          <a:blip r:embed="rId2"/>
          <a:stretch/>
        </p:blipFill>
        <p:spPr>
          <a:xfrm>
            <a:off x="2286000" y="3505320"/>
            <a:ext cx="2743200" cy="53820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5" descr="txp_fig"/>
          <p:cNvPicPr/>
          <p:nvPr/>
        </p:nvPicPr>
        <p:blipFill>
          <a:blip r:embed="rId3"/>
          <a:stretch/>
        </p:blipFill>
        <p:spPr>
          <a:xfrm>
            <a:off x="914400" y="4800600"/>
            <a:ext cx="739152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udakov double logs can be re-summed consistently in the small-x form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Kinematics of double logs and small-x evolution are well sepa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oft vs collinear glu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f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  <a:ea typeface="Comic Sans MS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is small, back to dilute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Q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  <a:ea typeface="Comic Sans MS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 is large (~Q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, we can safely neglect the Sudakov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2C8D-EED2-4725-A1DC-AEB7A966804A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BF7D-E96E-4B46-9B4E-E3C64F1DFC0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Out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udakov double logarithms in hard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BFKL resummation at small-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nsistent resummation of both logarithms (Higgs boson production at extreme high ener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Other hard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880D-959D-44B2-A07C-69BEC69EEF96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1ED1-B37B-4976-8E65-1FBF74DF45F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hoton-Jet 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ing or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7B80-9F27-45B7-8949-8F13C247C435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8713-B415-4781-9D49-419BE153394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Picture 5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6110280" cy="2019240"/>
          </a:xfrm>
          <a:prstGeom prst="rect">
            <a:avLst/>
          </a:prstGeom>
          <a:ln w="0">
            <a:noFill/>
          </a:ln>
        </p:spPr>
      </p:pic>
      <p:sp>
        <p:nvSpPr>
          <p:cNvPr id="860" name="TextBox 6"/>
          <p:cNvSpPr/>
          <p:nvPr/>
        </p:nvSpPr>
        <p:spPr>
          <a:xfrm>
            <a:off x="2760480" y="49528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pole glu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BK-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EEAD-5DEB-4788-8A5E-0D50E4CCD863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F00B-81D8-4707-BFBA-F6C7489E228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5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2578320" cy="176832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6" descr=""/>
          <p:cNvPicPr/>
          <p:nvPr/>
        </p:nvPicPr>
        <p:blipFill>
          <a:blip r:embed="rId2"/>
          <a:stretch/>
        </p:blipFill>
        <p:spPr>
          <a:xfrm>
            <a:off x="1828800" y="3505320"/>
            <a:ext cx="2362320" cy="186192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7" descr=""/>
          <p:cNvPicPr/>
          <p:nvPr/>
        </p:nvPicPr>
        <p:blipFill>
          <a:blip r:embed="rId3"/>
          <a:stretch/>
        </p:blipFill>
        <p:spPr>
          <a:xfrm>
            <a:off x="4038480" y="3352680"/>
            <a:ext cx="2746440" cy="198144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8" descr=""/>
          <p:cNvPicPr/>
          <p:nvPr/>
        </p:nvPicPr>
        <p:blipFill>
          <a:blip r:embed="rId4"/>
          <a:stretch/>
        </p:blipFill>
        <p:spPr>
          <a:xfrm>
            <a:off x="4267080" y="1523880"/>
            <a:ext cx="2895840" cy="191160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8" descr="Screen shot 2012-10-04 at 3.14.27 PM.png"/>
          <p:cNvPicPr/>
          <p:nvPr/>
        </p:nvPicPr>
        <p:blipFill>
          <a:blip r:embed="rId5"/>
          <a:stretch/>
        </p:blipFill>
        <p:spPr>
          <a:xfrm>
            <a:off x="304920" y="5410080"/>
            <a:ext cx="85089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oft gluon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457200" y="4495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(a,b) contribute to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 (j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(c,d) contribute to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erence contribute to 1/2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C2A7-D3E7-4CC5-AD10-D04D5096F3C7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8786-FE1E-4EB2-9519-FDB5CC556CB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Picture 7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419360" cy="2684520"/>
          </a:xfrm>
          <a:prstGeom prst="rect">
            <a:avLst/>
          </a:prstGeom>
          <a:ln w="0">
            <a:noFill/>
          </a:ln>
        </p:spPr>
      </p:pic>
      <p:sp>
        <p:nvSpPr>
          <p:cNvPr id="874" name="Right Arrow 8"/>
          <p:cNvSpPr/>
          <p:nvPr/>
        </p:nvSpPr>
        <p:spPr>
          <a:xfrm>
            <a:off x="4800600" y="2743200"/>
            <a:ext cx="6858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Picture 9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657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ffective kt-fact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-jet correlations in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85EC-C046-415F-B53F-35C1D97620E0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69E2-22E5-4DBE-B630-04369C617BA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2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5414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gg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q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457200" y="3962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|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c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1/Nc supp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4FC1-9FEA-4822-AE74-04A9DDF01EBD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7DDF-E3F2-4F7E-A9DF-233502716D0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Picture 5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810240" cy="261648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6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3786480" cy="761760"/>
          </a:xfrm>
          <a:prstGeom prst="rect">
            <a:avLst/>
          </a:prstGeom>
          <a:ln w="0">
            <a:noFill/>
          </a:ln>
        </p:spPr>
      </p:pic>
      <p:sp>
        <p:nvSpPr>
          <p:cNvPr id="887" name="Right Arrow 7"/>
          <p:cNvSpPr/>
          <p:nvPr/>
        </p:nvSpPr>
        <p:spPr>
          <a:xfrm>
            <a:off x="4419720" y="2362320"/>
            <a:ext cx="533160" cy="30456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qg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q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57200" y="3962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|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c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arge Nc supp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B4AE-F9B4-4C74-9EE4-486CB4595E9E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53C4-46C4-454A-859E-CAAB7AD2BC5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ight Arrow 7"/>
          <p:cNvSpPr/>
          <p:nvPr/>
        </p:nvSpPr>
        <p:spPr>
          <a:xfrm>
            <a:off x="4419720" y="2362320"/>
            <a:ext cx="533160" cy="30456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Picture 8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3803760" cy="260352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9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657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gg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457200" y="41148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|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+2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2C64-B62F-4408-BD8D-FA2714721BA4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BBE8-80DA-4C23-A818-5DED145654D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6" descr=""/>
          <p:cNvPicPr/>
          <p:nvPr/>
        </p:nvPicPr>
        <p:blipFill>
          <a:blip r:embed="rId1"/>
          <a:stretch/>
        </p:blipFill>
        <p:spPr>
          <a:xfrm>
            <a:off x="4952880" y="2286000"/>
            <a:ext cx="3786480" cy="762120"/>
          </a:xfrm>
          <a:prstGeom prst="rect">
            <a:avLst/>
          </a:prstGeom>
          <a:ln w="0">
            <a:noFill/>
          </a:ln>
        </p:spPr>
      </p:pic>
      <p:sp>
        <p:nvSpPr>
          <p:cNvPr id="900" name="Right Arrow 7"/>
          <p:cNvSpPr/>
          <p:nvPr/>
        </p:nvSpPr>
        <p:spPr>
          <a:xfrm>
            <a:off x="4419720" y="2514600"/>
            <a:ext cx="533160" cy="30492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Picture 8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365760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udakov leading double 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ncoming parton contributes to a half of the associated color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gluon radiation, aka, TM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 gluon radiation in collinear calculation also demonstrates this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man, et 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-leading logs will be much complicated, usually a matrix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C3F4-225E-4AD3-9A56-A506AA75322C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D05B-749A-4E18-AACD-A9BDAF96E1B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68544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udakov double logs can be re-summed in the small-x saturation form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oft gluon and collinear gluon radiation is well separated in phas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hall provide arguments to apply the effective kt-factorization to describe dijet correlation in pA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13AC-CB67-4EAC-A4C2-EE1B15908213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191C-0988-4024-BD05-3C65A2B2C6B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Slide Number Placeholder 4"/>
          <p:cNvSpPr/>
          <p:nvPr/>
        </p:nvSpPr>
        <p:spPr>
          <a:xfrm>
            <a:off x="4648320" y="6477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674C-2C48-497B-9463-E0D5C4018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Sudakov Large Double Logarith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ifferential cross section depends on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Comic Sans MS"/>
              </a:rPr>
              <a:t>1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here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&gt;&gt;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Comic Sans MS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Comic Sans MS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Comic Sans MS"/>
              </a:rPr>
              <a:t>Q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e have to resum these large logs to make reliable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: Dokshitzer, Diakonov, Troian, 78; Parisi Petronzio, 79; Collins, Soper, Sterman, 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reshold: Sterman 87; Catani and Trentadue 89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7" descr="txp_fig"/>
          <p:cNvPicPr/>
          <p:nvPr/>
        </p:nvPicPr>
        <p:blipFill>
          <a:blip r:embed="rId1"/>
          <a:stretch/>
        </p:blipFill>
        <p:spPr>
          <a:xfrm>
            <a:off x="762120" y="2971800"/>
            <a:ext cx="7656480" cy="1093680"/>
          </a:xfrm>
          <a:prstGeom prst="rect">
            <a:avLst/>
          </a:prstGeom>
          <a:ln w="0">
            <a:noFill/>
          </a:ln>
        </p:spPr>
      </p:pic>
      <p:sp>
        <p:nvSpPr>
          <p:cNvPr id="741" name="TextBox 1"/>
          <p:cNvSpPr/>
          <p:nvPr/>
        </p:nvSpPr>
        <p:spPr>
          <a:xfrm>
            <a:off x="6784920" y="13716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18ff"/>
                </a:solidFill>
                <a:latin typeface="Arial"/>
              </a:rPr>
              <a:t>Sudakov, 19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Slide Number Placeholder 4"/>
          <p:cNvSpPr/>
          <p:nvPr/>
        </p:nvSpPr>
        <p:spPr>
          <a:xfrm>
            <a:off x="4648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60F9-29AD-4C41-BF89-03938FCEC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How Large of the Resummation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7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5867280" cy="4532400"/>
          </a:xfrm>
          <a:prstGeom prst="rect">
            <a:avLst/>
          </a:prstGeom>
          <a:ln w="0">
            <a:noFill/>
          </a:ln>
        </p:spPr>
      </p:pic>
      <p:grpSp>
        <p:nvGrpSpPr>
          <p:cNvPr id="746" name="Group 2"/>
          <p:cNvGrpSpPr/>
          <p:nvPr/>
        </p:nvGrpSpPr>
        <p:grpSpPr>
          <a:xfrm>
            <a:off x="2438280" y="3733920"/>
            <a:ext cx="1579320" cy="431640"/>
            <a:chOff x="2438280" y="3733920"/>
            <a:chExt cx="1579320" cy="431640"/>
          </a:xfrm>
        </p:grpSpPr>
        <p:sp>
          <p:nvSpPr>
            <p:cNvPr id="747" name="Line 8"/>
            <p:cNvSpPr/>
            <p:nvPr/>
          </p:nvSpPr>
          <p:spPr>
            <a:xfrm flipH="1">
              <a:off x="2438280" y="3936960"/>
              <a:ext cx="609840" cy="228600"/>
            </a:xfrm>
            <a:prstGeom prst="line">
              <a:avLst/>
            </a:prstGeom>
            <a:ln w="57240">
              <a:solidFill>
                <a:srgbClr val="e323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10"/>
            <p:cNvSpPr/>
            <p:nvPr/>
          </p:nvSpPr>
          <p:spPr>
            <a:xfrm>
              <a:off x="2988000" y="3733920"/>
              <a:ext cx="10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32303"/>
                  </a:solidFill>
                  <a:latin typeface="Arial"/>
                  <a:ea typeface="Arial"/>
                </a:rPr>
                <a:t>Res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1"/>
          <p:cNvGrpSpPr/>
          <p:nvPr/>
        </p:nvGrpSpPr>
        <p:grpSpPr>
          <a:xfrm>
            <a:off x="2453760" y="5028840"/>
            <a:ext cx="724680" cy="1110600"/>
            <a:chOff x="2453760" y="5028840"/>
            <a:chExt cx="724680" cy="1110600"/>
          </a:xfrm>
        </p:grpSpPr>
        <p:sp>
          <p:nvSpPr>
            <p:cNvPr id="750" name="Line 9"/>
            <p:cNvSpPr/>
            <p:nvPr/>
          </p:nvSpPr>
          <p:spPr>
            <a:xfrm flipH="1" flipV="1">
              <a:off x="2453760" y="5028840"/>
              <a:ext cx="304920" cy="7621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11"/>
            <p:cNvSpPr/>
            <p:nvPr/>
          </p:nvSpPr>
          <p:spPr>
            <a:xfrm>
              <a:off x="2459880" y="574056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66"/>
                  </a:solidFill>
                  <a:latin typeface="Arial"/>
                  <a:ea typeface="Arial"/>
                </a:rPr>
                <a:t>N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Text Box 12"/>
          <p:cNvSpPr/>
          <p:nvPr/>
        </p:nvSpPr>
        <p:spPr>
          <a:xfrm>
            <a:off x="4777560" y="6019920"/>
            <a:ext cx="42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Kulesza, Sterman, Vogelsang, 02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4"/>
          <p:cNvSpPr/>
          <p:nvPr/>
        </p:nvSpPr>
        <p:spPr>
          <a:xfrm>
            <a:off x="4648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24F5-BF38-4EA3-9AD6-DA6AB5FB4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Collins-Soper-Sterman Resum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ntroduce a new concept, the Transverse Momentum Dependent 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ove the Factorization in terms of the TM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</a:t>
            </a:r>
            <a:r>
              <a:rPr b="0" lang="en-US" sz="3200" spc="-1" strike="noStrike">
                <a:solidFill>
                  <a:srgbClr val="e32303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e32303"/>
                </a:solidFill>
                <a:latin typeface="Comic Sans MS"/>
                <a:ea typeface="Comic Sans MS"/>
              </a:rPr>
              <a:t>(P</a:t>
            </a:r>
            <a:r>
              <a:rPr b="0" lang="en-US" sz="3200" spc="-1" strike="noStrike" baseline="-25000">
                <a:solidFill>
                  <a:srgbClr val="e32303"/>
                </a:solidFill>
                <a:latin typeface="Comic Sans MS"/>
                <a:ea typeface="Comic Sans MS"/>
              </a:rPr>
              <a:t>T</a:t>
            </a:r>
            <a:r>
              <a:rPr b="0" lang="en-US" sz="3200" spc="-1" strike="noStrike">
                <a:solidFill>
                  <a:srgbClr val="e32303"/>
                </a:solidFill>
                <a:latin typeface="Comic Sans MS"/>
                <a:ea typeface="Comic Sans MS"/>
              </a:rPr>
              <a:t>,Q)=H(Q) f</a:t>
            </a:r>
            <a:r>
              <a:rPr b="0" lang="en-US" sz="3200" spc="-1" strike="noStrike" baseline="-25000">
                <a:solidFill>
                  <a:srgbClr val="e32303"/>
                </a:solidFill>
                <a:latin typeface="Comic Sans MS"/>
                <a:ea typeface="Comic Sans MS"/>
              </a:rPr>
              <a:t>1</a:t>
            </a:r>
            <a:r>
              <a:rPr b="0" lang="en-US" sz="3200" spc="-1" strike="noStrike">
                <a:solidFill>
                  <a:srgbClr val="e32303"/>
                </a:solidFill>
                <a:latin typeface="Comic Sans MS"/>
                <a:ea typeface="Comic Sans MS"/>
              </a:rPr>
              <a:t>(k</a:t>
            </a:r>
            <a:r>
              <a:rPr b="0" lang="en-US" sz="3200" spc="-1" strike="noStrike" baseline="-25000">
                <a:solidFill>
                  <a:srgbClr val="e32303"/>
                </a:solidFill>
                <a:latin typeface="Comic Sans MS"/>
                <a:ea typeface="Comic Sans MS"/>
              </a:rPr>
              <a:t>1T</a:t>
            </a:r>
            <a:r>
              <a:rPr b="0" lang="en-US" sz="3200" spc="-1" strike="noStrike">
                <a:solidFill>
                  <a:srgbClr val="e32303"/>
                </a:solidFill>
                <a:latin typeface="Comic Sans MS"/>
                <a:ea typeface="Comic Sans MS"/>
              </a:rPr>
              <a:t>,Q) f</a:t>
            </a:r>
            <a:r>
              <a:rPr b="0" lang="en-US" sz="3200" spc="-1" strike="noStrike" baseline="-25000">
                <a:solidFill>
                  <a:srgbClr val="e32303"/>
                </a:solidFill>
                <a:latin typeface="Comic Sans MS"/>
                <a:ea typeface="Comic Sans MS"/>
              </a:rPr>
              <a:t>2</a:t>
            </a:r>
            <a:r>
              <a:rPr b="0" lang="en-US" sz="3200" spc="-1" strike="noStrike">
                <a:solidFill>
                  <a:srgbClr val="e32303"/>
                </a:solidFill>
                <a:latin typeface="Comic Sans MS"/>
                <a:ea typeface="Comic Sans MS"/>
              </a:rPr>
              <a:t>(k</a:t>
            </a:r>
            <a:r>
              <a:rPr b="0" lang="en-US" sz="3200" spc="-1" strike="noStrike" baseline="-25000">
                <a:solidFill>
                  <a:srgbClr val="e32303"/>
                </a:solidFill>
                <a:latin typeface="Comic Sans MS"/>
                <a:ea typeface="Comic Sans MS"/>
              </a:rPr>
              <a:t>2T</a:t>
            </a:r>
            <a:r>
              <a:rPr b="0" lang="en-US" sz="3200" spc="-1" strike="noStrike">
                <a:solidFill>
                  <a:srgbClr val="e32303"/>
                </a:solidFill>
                <a:latin typeface="Comic Sans MS"/>
                <a:ea typeface="Comic Sans MS"/>
              </a:rPr>
              <a:t>, Q) S(</a:t>
            </a:r>
            <a:r>
              <a:rPr b="0" lang="en-US" sz="3200" spc="-1" strike="noStrike">
                <a:solidFill>
                  <a:srgbClr val="e32303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e32303"/>
                </a:solidFill>
                <a:latin typeface="Comic Sans MS"/>
                <a:ea typeface="Comic Sans MS"/>
              </a:rPr>
              <a:t>T</a:t>
            </a:r>
            <a:r>
              <a:rPr b="0" lang="en-US" sz="3200" spc="-1" strike="noStrike">
                <a:solidFill>
                  <a:srgbClr val="e32303"/>
                </a:solidFill>
                <a:latin typeface="Comic Sans MS"/>
                <a:ea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arge Logs are resummed by solving the energy evolution equation of the TM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5" descr="txp_fig"/>
          <p:cNvPicPr/>
          <p:nvPr/>
        </p:nvPicPr>
        <p:blipFill>
          <a:blip r:embed="rId1"/>
          <a:stretch/>
        </p:blipFill>
        <p:spPr>
          <a:xfrm>
            <a:off x="838080" y="5334120"/>
            <a:ext cx="7323120" cy="742680"/>
          </a:xfrm>
          <a:prstGeom prst="rect">
            <a:avLst/>
          </a:prstGeom>
          <a:ln w="0">
            <a:noFill/>
          </a:ln>
        </p:spPr>
      </p:pic>
      <p:sp>
        <p:nvSpPr>
          <p:cNvPr id="757" name="Text Box 6"/>
          <p:cNvSpPr/>
          <p:nvPr/>
        </p:nvSpPr>
        <p:spPr>
          <a:xfrm>
            <a:off x="3973680" y="6172200"/>
            <a:ext cx="51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"/>
                <a:ea typeface="Arial"/>
              </a:rPr>
              <a:t>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Collins-Soper 81, Collins-Soper-Sterman 85</a:t>
            </a:r>
            <a:r>
              <a:rPr b="1" lang="en-US" sz="2800" spc="-1" strike="noStrike">
                <a:solidFill>
                  <a:srgbClr val="66ff66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Slide Number Placeholder 4"/>
          <p:cNvSpPr/>
          <p:nvPr/>
        </p:nvSpPr>
        <p:spPr>
          <a:xfrm>
            <a:off x="4648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34AD-B67B-4A50-A656-CB9A64420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CSS Formalism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K and G obey the renormalization group e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e large logs will be resummed into the exponential form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,B,C functions are perturbative calcu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4" descr="txp_fig"/>
          <p:cNvPicPr/>
          <p:nvPr/>
        </p:nvPicPr>
        <p:blipFill>
          <a:blip r:embed="rId1"/>
          <a:stretch/>
        </p:blipFill>
        <p:spPr>
          <a:xfrm>
            <a:off x="2057400" y="2133720"/>
            <a:ext cx="4419720" cy="86652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5" descr="txp_fig"/>
          <p:cNvPicPr/>
          <p:nvPr/>
        </p:nvPicPr>
        <p:blipFill>
          <a:blip r:embed="rId2"/>
          <a:stretch/>
        </p:blipFill>
        <p:spPr>
          <a:xfrm>
            <a:off x="762120" y="4267080"/>
            <a:ext cx="8001000" cy="744480"/>
          </a:xfrm>
          <a:prstGeom prst="rect">
            <a:avLst/>
          </a:prstGeom>
          <a:ln w="0">
            <a:noFill/>
          </a:ln>
        </p:spPr>
      </p:pic>
      <p:sp>
        <p:nvSpPr>
          <p:cNvPr id="763" name="Text Box 6"/>
          <p:cNvSpPr/>
          <p:nvPr/>
        </p:nvSpPr>
        <p:spPr>
          <a:xfrm>
            <a:off x="4087440" y="5867280"/>
            <a:ext cx="476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"/>
                <a:ea typeface="Arial"/>
              </a:rPr>
              <a:t>(Collins-Soper-Sterman 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Slide Number Placeholder 4"/>
          <p:cNvSpPr/>
          <p:nvPr/>
        </p:nvSpPr>
        <p:spPr>
          <a:xfrm>
            <a:off x="4648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B9AC-4778-44E3-B5DF-2A9DD9F44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Two Large Scales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Very success in application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IS and Drell-Yan at small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Resu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IS and Drell-Yan at large x (Threshold Res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Higgs production at small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or large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rust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Jet shap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1" descr="Screen shot 2012-10-03 at 3.04.08 PM.png"/>
          <p:cNvPicPr/>
          <p:nvPr/>
        </p:nvPicPr>
        <p:blipFill>
          <a:blip r:embed="rId1"/>
          <a:stretch/>
        </p:blipFill>
        <p:spPr>
          <a:xfrm>
            <a:off x="4800600" y="3710160"/>
            <a:ext cx="3352680" cy="3147840"/>
          </a:xfrm>
          <a:prstGeom prst="rect">
            <a:avLst/>
          </a:prstGeom>
          <a:ln w="0">
            <a:noFill/>
          </a:ln>
        </p:spPr>
      </p:pic>
      <p:sp>
        <p:nvSpPr>
          <p:cNvPr id="768" name="TextBox 2"/>
          <p:cNvSpPr/>
          <p:nvPr/>
        </p:nvSpPr>
        <p:spPr>
          <a:xfrm>
            <a:off x="928800" y="5715000"/>
            <a:ext cx="39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Bos: Nadolsky, et al., PRD 20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 resummation buil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State of art of the PD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sp>
        <p:nvSpPr>
          <p:cNvPr id="771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F2AB-2D63-402E-8D8E-85859DC792A5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22C2-C695-4BAF-92FE-FA2C3E75868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5" descr="Screen shot 2012-10-04 at 10.38.05 AM.png"/>
          <p:cNvPicPr/>
          <p:nvPr/>
        </p:nvPicPr>
        <p:blipFill>
          <a:blip r:embed="rId2"/>
          <a:stretch/>
        </p:blipFill>
        <p:spPr>
          <a:xfrm>
            <a:off x="304920" y="1600200"/>
            <a:ext cx="4190760" cy="464832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6" descr="Screen shot 2012-10-04 at 10.36.33 AM.png"/>
          <p:cNvPicPr/>
          <p:nvPr/>
        </p:nvPicPr>
        <p:blipFill>
          <a:blip r:embed="rId3"/>
          <a:stretch/>
        </p:blipFill>
        <p:spPr>
          <a:xfrm>
            <a:off x="4724280" y="1523880"/>
            <a:ext cx="417204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BFKL evolution becomes relevant at small-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Balitsky-Fadin-Lipatov-Kuraev, 1977-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Balitsky-Kovchegov: Non-linear term, 9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DFBF-B180-4ED6-86A1-6FFDE660BBE0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B2C2-2B14-4302-829D-0849B2C8F9B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6" descr="Screen shot 2012-10-04 at 2.49.03 PM.png"/>
          <p:cNvPicPr/>
          <p:nvPr/>
        </p:nvPicPr>
        <p:blipFill>
          <a:blip r:embed="rId1"/>
          <a:stretch/>
        </p:blipFill>
        <p:spPr>
          <a:xfrm>
            <a:off x="1828800" y="5257800"/>
            <a:ext cx="4064040" cy="120636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8" descr="Screen shot 2012-10-04 at 2.49.14 PM.png"/>
          <p:cNvPicPr/>
          <p:nvPr/>
        </p:nvPicPr>
        <p:blipFill>
          <a:blip r:embed="rId2"/>
          <a:stretch/>
        </p:blipFill>
        <p:spPr>
          <a:xfrm>
            <a:off x="1447920" y="4419720"/>
            <a:ext cx="5626080" cy="72396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9" descr="Screen shot 2012-10-04 at 2.48.44 PM.png"/>
          <p:cNvPicPr/>
          <p:nvPr/>
        </p:nvPicPr>
        <p:blipFill>
          <a:blip r:embed="rId3"/>
          <a:stretch/>
        </p:blipFill>
        <p:spPr>
          <a:xfrm>
            <a:off x="1676520" y="2743200"/>
            <a:ext cx="4411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5T18:54:39Z</dcterms:created>
  <dc:creator>Feng Yuan</dc:creator>
  <dc:description/>
  <dc:language>en-US</dc:language>
  <cp:lastModifiedBy>Feng Yuan</cp:lastModifiedBy>
  <dcterms:modified xsi:type="dcterms:W3CDTF">2013-04-25T19:12:05Z</dcterms:modified>
  <cp:revision>281</cp:revision>
  <dc:subject/>
  <dc:title>QCD Factorization for Semi-Inclusive DIS</dc:title>
</cp:coreProperties>
</file>